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ccountable Talk Sourcebook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Read pages 16-26 of the Accountable Talk Sourcebook- Organizing for the Accountable Talk Community- Stable Routines and Talk Formats.  Stop at Teacher Moves at the bottom of page 26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ile you are reading, think about your own classroom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ow can you develop constructive student discourse in your classroom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teacher moves will you focus on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3508-1F03-4F4D-BC99-A6470C1A11A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F1F7-7009-4638-A71E-746831F2D9E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C371-B6B2-4B8F-9863-433FEEE4F51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A57D-C3F7-42B3-94B8-0EAD537FA71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E173-823F-471D-9417-3E055EFC2B3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2FA4-BEBE-4411-959D-B933CAEDB14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F4EF-19B0-4391-B015-14368A6928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DB58-1676-4C94-BDA0-8E201D9C845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D584-785D-4844-9618-3102FC5E25E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8D8E-9B7D-4455-9C79-578C323C7D9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73E4-5913-46C0-82D8-794F3B3EDDA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DFA0-25CB-46C7-B1E1-6D3AD214D38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4033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"/>
          </p:nvPr>
        </p:nvSpPr>
        <p:spPr>
          <a:xfrm>
            <a:off x="10674000" y="9124560"/>
            <a:ext cx="320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B489-E643-4BE9-8414-8B07817AC241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" descr=""/>
          <p:cNvPicPr/>
          <p:nvPr/>
        </p:nvPicPr>
        <p:blipFill>
          <a:blip r:embed="rId1"/>
          <a:stretch/>
        </p:blipFill>
        <p:spPr>
          <a:xfrm>
            <a:off x="1138320" y="852480"/>
            <a:ext cx="10715400" cy="805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on Burgess</cp:lastModifiedBy>
  <dcterms:modified xsi:type="dcterms:W3CDTF">2011-09-24T19:53:16Z</dcterms:modified>
  <cp:revision>2</cp:revision>
  <dc:subject/>
  <dc:title>PowerPoint Presentation</dc:title>
</cp:coreProperties>
</file>